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3FD-1F4B-4AA0-9B85-52874EA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E08-6FE2-46BE-A24D-20E2A6C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563-87DC-4EF9-93B7-7C4E26F9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95E-4BD1-4360-B214-70C8E817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B6AB-9132-41D2-AF8A-BBDFBE92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30D-15C5-4A5E-8B6E-B7581FB9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21A-EF7C-4B90-ACCC-95733D8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CD5E-63B8-4561-959D-E03F7DC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D01E-6F0B-4846-9A27-B279DA8F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C083-6A2E-4CE9-837A-EE1A657B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7BFB-D6F3-4826-A02C-11C06EB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130-405C-4D3B-B864-00638C9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5F0C-174F-40FD-AB4E-574CD9B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393-1C39-499E-BE71-EAB36DA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AAB-5B66-41F6-A521-B199408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EAD5-88E4-4A6E-8CB5-40796284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AE2-346B-48DD-A476-B88D2682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23C-28B3-484B-B596-0E5737F1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F62-E154-45FF-B857-44FF5D18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E66-EE72-49DA-A8E6-2175FF37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047-E3C8-44D9-9D15-810AA3C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475-47B5-4867-9FB1-4227536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A98-D707-472F-A5DE-304D10F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1B6-4489-427C-8162-5C119B4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D41-3C15-49E9-92C5-D1DC81B696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BAE-7C79-49A9-ABD1-4A075160E6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#1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this picture from your book. Which layer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have the following dens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umber would go with which l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density column 3"/>
          <p:cNvPicPr/>
          <p:nvPr/>
        </p:nvPicPr>
        <p:blipFill>
          <a:blip r:embed="rId1"/>
          <a:srcRect l="0" t="0" r="66146" b="59639"/>
          <a:stretch/>
        </p:blipFill>
        <p:spPr>
          <a:xfrm>
            <a:off x="6095880" y="1523880"/>
            <a:ext cx="271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quid Layers – Try with your neighb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middle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DensityColumn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 – Try on your ow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on the right have the following dens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9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12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colors to the correct d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ensity column 2"/>
          <p:cNvPicPr/>
          <p:nvPr/>
        </p:nvPicPr>
        <p:blipFill>
          <a:blip r:embed="rId1"/>
          <a:srcRect l="32079" t="5402" r="37737" b="24165"/>
          <a:stretch/>
        </p:blipFill>
        <p:spPr>
          <a:xfrm>
            <a:off x="4876920" y="15238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5341680" y="25146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7627680" y="3124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493960" y="3809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627680" y="449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265360" y="50292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7772400" y="5638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you pour together liquids that have different dens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top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bottom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per Scientist Question of the D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has a book, a ruler, and a bal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Jake find the density of the book with the tools he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Cj02875010000[1]"/>
          <p:cNvPicPr/>
          <p:nvPr/>
        </p:nvPicPr>
        <p:blipFill>
          <a:blip r:embed="rId1"/>
          <a:stretch/>
        </p:blipFill>
        <p:spPr>
          <a:xfrm>
            <a:off x="7010280" y="3962520"/>
            <a:ext cx="147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a comparison of how much matter there is in a certain amount of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: People in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: Which squar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341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6765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2666880" y="46483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9718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94360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6095880" y="49528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477120" y="48006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6858000" y="4495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6324480" y="52578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693432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57150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69343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6"/>
          <p:cNvSpPr/>
          <p:nvPr/>
        </p:nvSpPr>
        <p:spPr>
          <a:xfrm>
            <a:off x="64771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7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6629400" y="5334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ich on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52480" y="2590920"/>
            <a:ext cx="9907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343400" y="251460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4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Density =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mass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    mass ÷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Units for density: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g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se the units for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172200" y="3352680"/>
            <a:ext cx="1676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MEMBER UN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ry a density problem togeth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has a paper clip. It has a mass of 9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also has an eraser. It has a mass of 3g, and a volume of 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se problems with your neigh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has a rock. The rock has a mass of 6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 has a gel pen. The gel pen has a mass of 8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, try these on your ow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Licia has a watch. It has a mass of 4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 has a wallet. It has a mass of 15g and a volume of 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l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9ff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If you pour together liquids that don’t mix and have different densities, they will form liquid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low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35:32Z</dcterms:created>
  <dc:creator>Rebecca Walter</dc:creator>
  <dc:description/>
  <dc:language>en-US</dc:language>
  <cp:lastModifiedBy>jluckey</cp:lastModifiedBy>
  <dcterms:modified xsi:type="dcterms:W3CDTF">2014-03-20T14:24:48Z</dcterms:modified>
  <cp:revision>3</cp:revision>
  <dc:subject/>
  <dc:title>Density</dc:title>
</cp:coreProperties>
</file>